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88188" cy="9024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FEA-D18C-408C-8997-3ACFB5AA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B5DB-DEA7-4A8E-B130-18963AA7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AB9-92C7-490A-9F0A-88AF7566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9C29-0E7E-46E5-8DE6-0A816D54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8C0-802A-4AC7-BF95-7F11B945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4A2-779B-414B-A3C5-8A52A040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B6FD-AF0A-43CB-B644-F9EF9E74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060-D21B-44E8-8B6C-A60837D6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AD52-9FE1-43BF-8220-2B3B11A9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967-F7CD-42C5-8D83-BB72DCD2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A98-B193-45F3-8411-E5EAF961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4C9-0DB8-4360-BEDC-9166CB77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CF75-9FF1-4A3C-A6F5-827A65180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288120" cy="1346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2514600"/>
            <a:ext cx="3400560" cy="504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8600" y="17892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0880" y="3059280"/>
            <a:ext cx="7772400" cy="35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65972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7T15:32:31Z</dcterms:created>
  <dc:creator>Graham</dc:creator>
  <dc:description/>
  <dc:language>en-US</dc:language>
  <cp:lastModifiedBy>Graham</cp:lastModifiedBy>
  <dcterms:modified xsi:type="dcterms:W3CDTF">2012-08-08T12:16:12Z</dcterms:modified>
  <cp:revision>3</cp:revision>
  <dc:subject/>
  <dc:title>Slide 1</dc:title>
</cp:coreProperties>
</file>